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54A-CEE8-45BC-AE1B-3B31B48D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DDB-1798-4477-8577-6B90CBF7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6FD-F8C6-4A38-BF52-D21971C8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5D0-3094-445B-937C-B9B2DCB9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0558-4280-4765-A5F2-35BAF284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9CED-BAC0-454E-855F-72E68E7C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35E8-0124-4BEB-B417-32AC64F0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980D-FD4B-4487-9F19-EEF32FA2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D07E-FA37-46C0-A409-20B13654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9F8B-A9BC-46DB-B910-30FC1483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FA8F-3AFE-47A5-9B69-8028D2E9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C53-C24A-469B-B594-BD1BF3B1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D502-117B-4A3A-A887-F92F34E0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F3D7-D2F0-486E-A2E1-2500F150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E13F-EA6C-49BF-A2A3-27DA989B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7452-A482-4A91-A9F8-EA1A72AA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CFF3-6D95-4AC7-AB7A-5268A595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4C9-79CA-436C-9418-3FA8E2FE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96D-375D-4358-A362-B39D92AF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85F-ED0D-48E9-BC4C-02923B59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32D-76DD-4594-A50A-6E358259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969-E894-45B9-B8C2-090D52C9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389-E7F0-4310-A37B-DB63388A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D7A-AA9F-4106-A1C8-67F795AE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CBC8-015F-487D-88B9-A901DE471F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5D94-7FBF-40A0-BECA-C8D79048F0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99"/>
                </a:solidFill>
                <a:latin typeface="Garamond"/>
              </a:rPr>
              <a:t>НПК – метапредметные цели и задачи в современной школе.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3284640"/>
            <a:ext cx="7234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Выступление на краевом методическом  семинаре по тем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«Инновационные педагогические технологии: Проектная и исследовательская деятельность на уроках и во внеурочное врем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Яковлева Н.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Главное  отличие проектной и исследовательской деятельности – это цель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проектной деятельности – реализация проектного замыс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исследовательской деятельности - уяснения сущности явлений,  поиск истины, открытие новых закономерностей и т.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 – временная целенаправленная деятельность на получение уникального результ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ая деятельность является частью самостоятельной работы учащихся. Качественно выполненный проект – это поэтапное планирование своих действий, отслеживание результатов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ю проектной деятельности является понимание и применение учащимися знаний, умений и навыков, приобретенных при изучении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ланированию (учащийся должен уметь четко определить цель, описать основные шаги по достижению поставленной цели, концентрироваться на достижении цели, на протяжении всей рабо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бора и обработки информации, материалов (учащийся должен уметь выбрать подходящую информацию и правильно ее использовать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анализировать (креативность и критическое мышл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составлять письменный отчет (учащийся должен уметь составлять план работы, презентовать четко информацию, оформлять сноски, иметь понятие о библиографи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тношения к работе (учащийся должен проявлять инициативу, энтузиазм, стараться выполнить работу в срок в соответствии с установленным планом и графиком рабо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К важным положительным факторам проектной деятельности относятся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учащихся при решении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щение акцента от инструментального подхода в решении задач к технологическо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для отношений сотрудни-чества между учителем и учащим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549360"/>
            <a:ext cx="8229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-ности происходит подсознательно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йся стремится доказать, в первую очередь, самому себе, что он сделал правильный выб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ет отметить, что стремление самоутвердиться является главным фактором эффективности проектной деятель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решении практических задач естественным образом возникают отношения сотрудничества с учи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 ярко это проявляется на тех задачах, которые сумел сформулировать сам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476280"/>
            <a:ext cx="8229600" cy="67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гласно федеральным образовательным стандартам (ФГОС), одной из форм, способствующих развитию универсальных учебных действий исследовательского характера, является научно-практическая конферен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еренция (от лат. conferre – собирать в одном месте) – это форма коллективного обсуждения и изучения каких-либо актуальных проблем; собрание организаций, групп, а также отдельных лиц для обсуждения и решения определенных вопрос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11280" y="47592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видам конференции подразделяются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ы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еск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итические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 представляющие синтез этих направлений (научно-практические, общественно-политические и др.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тикой, названием и целями обычно определяется содержание и направленность конференци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468360" y="6206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«Содержание образовательной программы любой нации определяет её ценности и отражает её надежды, возлагаемые на будущие поколения»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2771640" y="544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 ХАЛЛГАРТЕН, директор по вопросам образования и лидер проекта «Проектирование общей образовательной программы» Королевское общество искусств (R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259920"/>
            <a:ext cx="8229600" cy="62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процессе подготовки к конференции у школьников формируются навыки целенаправленного наблюдения, постановки эксперимента, они проходят весь путь исследовательской деятельности – от определения проблемы до защиты полученных результа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39640" y="692280"/>
            <a:ext cx="820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Метапознание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, как следует из самого термина, — это знание человека о своем собственном познании и основанная на этом знании способность управлять своими </a:t>
            </a:r>
            <a:r>
              <a:rPr b="0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ознавательными процессами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в ходе приобретения новых знан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84360" y="549360"/>
            <a:ext cx="799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а самом деле главное, про что метапознание в школе, — это про возможность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индивидуальных траекторий обучения</a:t>
            </a: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58920" y="620640"/>
            <a:ext cx="878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8360" y="0"/>
            <a:ext cx="849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метапознания начинается с двух других вопросов. Прежде всего, с вопроса «Как ты это узнал?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Это заставляет школьника рефлексировать о том, как работала его память, как работало его внимание, как он мысли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второй главный вопрос — «Зачем ты это узнал?», то есть для чего ребенку это знание, где оно может быть востребова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этот вопрос напрямую выводит нас на проблему мотивации — того самого, чего современному школьнику чаще всего не хват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755640" y="62064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«Лучший способ предсказать будущее — вдохнови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овое поколение учеников сделать его лучше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527280" y="5013360"/>
            <a:ext cx="54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Н АБЕЛЕ, учредитель и председатель Boston Scientific, председатель Argosy Found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Вызовы современности для школы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48392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Чему должны учиться школьники в эпоху поисковых машин, роботов и искусственного интеллек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селерация технологий и информационный взрыв породили срочную необходимость переосмыслить систему образования, традиционно основанную на учебном материале. Начиная с глубокого понимания того, как меняются потребности современного общества и работников, эти вызовы призывают нас сделать большой скачок в области образования, чтобы развить глубокие компетенции, включающие актуальные современные 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356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В ВИНТЕР, директор, площадка Кэмбридж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907560"/>
            <a:ext cx="8785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Изменение роли участников педагогического процесса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8" name="Содержимое 4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84312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Какое место занимает проектная деятельность в реализации ФГОС нового поколения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ое отличие нового Стандарта заключается в изменение результатов, которые мы должны получить на выходе (планируемые личностные, предметные  и метапредметные результа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ментом достижения данных результатов являются универсальные учебные действия (программы формирования УУ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м подходом формирования УУД, согласно новым Стандартам, является системно-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им из методов (возможно наиболее эффективным) реализации данного подхода является проектная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ребования к результатам освоения ООП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 получению нового знания в рамках учебного предмета, его преобразованию и применению в учебных, учебно-проектных и социально – проектных ситуациях» (п.8 ФГОС О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  и способность к решению учебно-практических и учебно-познавательных задач»    (п.12 ФГОС ОО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Фактически, ФГОС требует от учителя помочь школьнику получить представление об основных мыслительных операциях и научиться применять их на практик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нализ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анализе происходит мысленное разложение целого на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интез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это обратный анализу процесс. При синтезе происходит мысленное объедине­ние частей, свойств, действий в единое целое. Сравнение – это установление сходства или различия между предметами и явлениями или их отдельными призна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бстракция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заключается в выделении каких-либо свойств, признаков изучаемого объ­екта и представление этих признаков, свойств в виде самостоятельного объекта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Конкретизация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конкретизации происходит возвращение мысли от общего и абст­рактного к конкретному с целью раскрытия содерж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бобщение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мысленное объединение предметов и явлений по их общим и существенным признака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пецифика  проектной и исследовательской деятельности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557360"/>
          <a:ext cx="8507520" cy="4949640"/>
        </p:xfrm>
        <a:graphic>
          <a:graphicData uri="http://schemas.openxmlformats.org/drawingml/2006/table">
            <a:tbl>
              <a:tblPr/>
              <a:tblGrid>
                <a:gridCol w="4253040"/>
                <a:gridCol w="4254480"/>
              </a:tblGrid>
              <a:tr h="56664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Учебно-исследовательская 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 направлен на получение конкретного запланированного  результата – продукта, обладающего определенными свойствами, и который необходим для конкретного использо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оде исследования организуется поиск в какой-то области, формулируются отдельные характеристики итогов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  <a:tr h="23749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 проекта должен быть точно соотнесен со всеми характеристиками, сформулированными в его замы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ние может вывести на результаты, которые не предполагались. 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ли модельную проверку выдвинутых предполож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авлен на формирование всего комплекса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ются прежде всего познавательны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1</cp:lastModifiedBy>
  <dcterms:modified xsi:type="dcterms:W3CDTF">2018-11-21T17:40:56Z</dcterms:modified>
  <cp:revision>76</cp:revision>
  <dc:subject/>
  <dc:title>«Деление ядер урана»</dc:title>
</cp:coreProperties>
</file>